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B312-1E35-4423-B104-4CEFCA3D1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E323-D933-48A9-9FE0-DCFD9986E1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5E8-BFF5-436B-A299-DD8272E3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8CAB-8C05-4195-9D16-E2375E96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C38-8505-40C1-A9B6-6A5BC660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194-EF0D-4366-89C9-B91E4FB3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C803-AED3-4948-BDC1-87B26C7C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C618-172B-4258-8A0C-C658F7F4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2432-CE7D-48B3-B6C6-8E61122E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D631-DF0E-492F-8752-3A58265E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4E27-7C1D-42D3-9528-64084528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E279-9C2E-49AB-8648-27453448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D67C-5C8F-45B3-8CBE-8BCB9275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30DB-A1C1-43CF-AC84-54E860DF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62C5-17B7-4922-B16D-BC8FEA19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A492-1F8F-4525-90E8-EECF579C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4296-6E59-4FDC-91D3-EAE1933A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C530-9416-4812-8883-8D1F2290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ABBF-46CD-4549-AA53-C991B23A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5523-E7A7-4F2F-90A5-C2033AC0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8437-F27C-49CB-8301-427A4BE2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A2A-54CD-449F-8153-BC809E0B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DB0-C14E-4642-847A-664C6623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AD8F-A8C5-426B-8B00-5E6CAF6D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7F9-9E67-4826-B17C-ECDB5514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292-238D-4AEF-86E1-7768985B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749F-5258-4705-82CB-CA216DA3103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0063-2CE6-4924-81E7-C0428C4E9A0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21</a:t>
            </a:r>
            <a:r>
              <a:rPr b="0" lang="en-US" sz="5400" spc="-1" strike="noStrike" baseline="30000">
                <a:solidFill>
                  <a:srgbClr val="ffffcc"/>
                </a:solidFill>
                <a:latin typeface="Tahoma"/>
              </a:rPr>
              <a:t>st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Century Librar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71440"/>
            <a:ext cx="64008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639040" cy="422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new paradigm for teaching in the 21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st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entu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33520" y="251460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What we teach are inquiry proce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How we teach it is in collaboration with content-area teach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What does learning in the library look like?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e teach students to become self-actualized independent learners aware of their cognitive processes, and to use that self-awareness to increase information efficacy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43200" y="3429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t is this focus on meta-cognition that distinguishes our subject-area &amp; standar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t is also why we teach our subject in collaboration with other content-areas, and not as a stand-alone (skills in isolation) subject.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tact your teacher-librarian to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llaborate by designing lessons together using inquiry processes &amp; information technolo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et up pathfinders for your units of stu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ncourage reading through book tal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xplore audio boo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earn how to use search tools and datab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elp in using Web 2.0 t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533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ngage students in storytel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se the library for producing and presen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IMG_0032.JPG"/>
          <p:cNvPicPr/>
          <p:nvPr/>
        </p:nvPicPr>
        <p:blipFill>
          <a:blip r:embed="rId1"/>
          <a:stretch/>
        </p:blipFill>
        <p:spPr>
          <a:xfrm>
            <a:off x="2057400" y="259092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7:12:30Z</dcterms:created>
  <dc:creator>Your User Name</dc:creator>
  <dc:description/>
  <dc:language>en-US</dc:language>
  <cp:lastModifiedBy>cryman</cp:lastModifiedBy>
  <dcterms:modified xsi:type="dcterms:W3CDTF">2009-08-03T19:31:20Z</dcterms:modified>
  <cp:revision>16</cp:revision>
  <dc:subject/>
  <dc:title>21st Century Library</dc:title>
</cp:coreProperties>
</file>